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249-789D-4705-8AE0-E36281DF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49C-6590-4E23-AC46-D8933269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D59B4-FA28-4ACB-9149-3D677D8D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24275-D365-4DC4-A723-D46E674C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9A5EB-E38D-4408-A7AF-A234633E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3A32C-5EDB-43CD-8913-A408119D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18B63-12BC-4AE5-A6F3-EC42044E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A0571-F4CD-47AA-A20E-5F463728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C5497-E786-4F1B-BD42-37630329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712EF-003B-481A-9677-8B037A17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CA508-7EA8-44DE-9167-494711CF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65B93-3390-498B-8569-AE880F19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580-0246-4001-BD00-4574E51E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32F4A-953A-4A52-BC7C-1FB9D3D0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75E61-D254-4CB2-B5DF-D6BD0CA8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74231-9616-4462-BDEF-602E98B9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80BB3-5BC9-4499-9DAB-9B227563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234BD-228F-4F4F-A91E-11702A1A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7D441-C0BF-404F-B781-0B5A481F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90E00-918E-4C18-8128-6F6A3C82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E8B39-5222-4F03-8323-112222D6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E7DCB-B4DF-4875-9F8C-47BD71C8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B8567-DF18-46AC-BF3C-AAF80461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B094-4AFC-4176-8D72-982FB9CA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F1DB7-8F9B-43CC-BEF5-C401669C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14F20-5FCD-4439-832F-E5CF5454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2F86E-4E9E-44E6-AE2D-5928C502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7C8C8-5A0D-4BCA-B502-333613F2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AD50F-4A8E-4E1D-BFA2-9E81BF3C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F3F0B-E0ED-4F6E-8162-8206A6DF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20676-3F67-4720-AC42-A5607FCB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B37AA-F391-4829-8452-2D355FEB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DCAB8-B0F5-495B-919C-9041FF4E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AF186-8E3E-4C6D-B811-10B3B2EA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B756-78EC-47A4-A784-DD461677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33F79-6BD8-4940-9FFF-CABE72B0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F1897-5787-4A39-A277-74377FF3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82CA5-64F2-4A9E-A633-1E62E77C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5262D-C395-4FFF-9309-1F600D67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2550D-51FB-4AC9-8EBC-75DCAAF9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18321-9398-402B-84D6-FA39A7D9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58AB3-9719-4195-80CD-199305D6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8699C-CEB8-4933-A17D-5E3C0CC7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B6485-D2B5-4400-AA81-E59ED072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872B6-64B1-4672-9777-2E8D54FF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35D8-15C6-4F4E-A9C4-607BFABD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EBFB3-213B-4836-B50F-36CE3D2E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5AA89-931D-4B4C-935E-BA6E91E8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10067-81C2-42FE-9EB3-DDC78C8F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BEA11-7222-4D51-B179-A8446D01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CFF0C-4D96-42C7-8E32-A4094C23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FE758-D9AE-43A8-BE31-BC1A9F35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3193A1-60D2-4C9C-AC9F-D18D9DEC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705323-9DA8-4B89-9B24-A7C0709B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73477-E89B-4A9F-AC90-2A34781C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C1406B-1F88-446C-B78D-9DFB121B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0DBB-5086-483F-A8FD-FDA041ED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EAA824-6FB6-47F7-ABD6-7AF34752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0FCB47-BB8B-4FE4-BF8F-F1038E2C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797878-727A-43CD-9056-80560D97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553A37-B74D-4986-B073-B05D7947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C7A3F-4D3E-4DF6-828A-0D1C5B17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129E9-C6BA-4E3F-A1FB-1CCE87C7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2AD66-39B6-4336-A345-E4BD58B1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BCFE6D-DA07-4973-9AE6-D0D83DD9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AC393-D324-4EA5-BE55-F51406E7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D47D7-9EB3-4153-BB71-D98A7CE2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A357-4021-404C-A1C2-B393EDF9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787C59-0C5A-45DD-AE77-0EEDFB70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3EF51B-EFE0-4517-AD84-C96B8A32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4576A-1907-4D62-9983-E7DE94EB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6A9368-EE89-4333-B68D-12B4BECE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7A2ADA-32BB-4B9A-BD89-D0B21DFA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A21EB2-8CB1-4BC2-8A2D-21AE8140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ED8A4-E77A-4E51-AFA3-DD7BC25E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5804DA-537E-415B-80F4-6941DAFA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C5EBE3-5634-4132-9180-4610E552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D8AFC1-18AF-4E24-A61F-35A00E22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C432-9340-4A66-A724-B6D91D31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504669-8FC4-4AB2-A8CD-B9D063E1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DCDAF6-03C5-4E84-A11E-9575A96D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B1DBE1-0B10-4DB2-AD40-76959EC4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7BAB38-FBA0-4AF6-B94B-6FAF4335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54C07A-573A-4A06-947A-1BB46ED5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D107E7-9C00-49B5-AD5D-4665E76B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404DDF-219C-4930-A849-0264B0B4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41153-82D2-424B-B8EF-F1D23FD0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6A3B31-AF9D-467F-AFFD-4C89D8D5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65D6AE-5E43-4137-B6CE-540E5DD6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FBCD-93C9-455A-958F-57A0721B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4B28F1-14AC-4CED-B4CC-1143B9DF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7B876D-E626-4A31-9AA7-F55E380F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9652F0-9B4E-4888-B09B-3D172EEF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4E7CC8-2C23-4B33-89D2-A0EDB47C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65693D-BC06-4E74-AE0C-B55E5057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034F51-AEEB-439E-95EA-8960E7B1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033C5B-94E4-4893-94F6-5572BB47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0B362E-E112-4430-B18E-DCB0AF76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09A881-51E2-4ECA-B680-A4995E53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F883EB-2750-41F5-9B7B-EC4388EB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6EA4-231F-43E0-BCAE-B5277F05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EBCE4E-3AD5-4C3B-A1D8-34AB2364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9C5BB9-F941-4ED3-9F03-9153D566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58326A-716A-4A14-9CDF-1EF95CD1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4DE2E-D234-40DC-AE8D-C711E91B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6183EB-327D-4BD6-8A8A-AE84E62A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BF3B11-88CC-4F51-96AD-CA27CE28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400292-FC4A-4002-933A-3F82DAA9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37A523-C8C8-4EBA-B56D-EA84441D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B9F624-A57B-445A-AB7E-0DD173AE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FD2481-0F12-40CE-BE61-CF78CBC5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CCD-A774-4069-8623-0959FCCB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434C-7A17-4C3C-BADB-37EE64ED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11B521-7B12-4614-8AEF-7911EDA8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716EA1-1073-493B-96F3-19672BEB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8F2880-A476-49AA-A224-6C997474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BE4E92-2809-43B0-B71A-2490BA90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A2AC23-A3B3-41E3-A0DA-7F444698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AABFFE-6232-4B11-B488-7AB1DD57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FA2072-A60C-4CE8-9131-DD540F04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80D760-409B-42CF-AB80-344EB081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B1702B-7AD8-47B9-AD00-97D696A7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C502C5-D4A8-4098-9140-77F9FAAC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6CB3-A022-43A3-851F-78E73E58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947A0F-F715-4ACE-A7DA-06860A97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0636FE-FD22-45E5-9102-B2D0ECBB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F73C2A-5D5B-466A-AC69-D14C62A4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5608F2-4E0F-4D32-B2FD-C0DB10E6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75A4B6-CCB2-4C62-A0C6-754E3BEC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EF6236-8C90-4273-936B-98CFC671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54D883-403C-4DE2-AD45-3F62330C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6B642B-5964-4847-B594-66A67EE5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95F81D-6875-4557-ABFA-BC86978E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845211-7FED-4B6C-A2DF-E398ADFF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5844-564E-42D8-A8D7-C18D7085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124773-C454-4009-B7EF-67103584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24FC0D-A22F-44C1-80F4-44ACB6D3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D90C23-5C35-44C4-BB91-85065384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5194CB-370C-4035-AF58-D916C3E0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D3C8B6-3FF7-43EC-AEE6-C4F921C0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79F6FC-6EAC-416E-BEE0-832A60D3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DBC72F-D639-4AEF-9F8C-E315393C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FEC705-F07B-4B72-989D-006E2F4A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ACA231-392B-4EDD-B8F7-FB04C29C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64627D-CE59-45E5-97D0-05E1A441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EB73-B5BE-491A-A83A-EBD9871B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5205C2-0B65-4535-AED1-EC5F00C9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DDA8F5-2005-4E93-9BCE-B576A99F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A66D52-E1C4-4E8B-858E-AFD2BB03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4CE1C9-C5C7-4A43-8742-AD43D33D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CD69F7-31EA-4F40-BED1-7A68A810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48D6CE-F540-49E7-AFF1-E77CE3A5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92E642-2C52-4334-AF5A-598BBBDB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90C8E8-58FC-48DF-8044-74533C39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D8C6E5-25ED-49BC-AD90-70F576C9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B61DDE-9452-4586-8BAB-124E3C34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D61B-5799-4BA7-88C2-059FDC96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0039E1-3112-4D50-9309-71B0A833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F46509-A0FF-4C64-ABE2-F76C7520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58C80A-7926-4FBF-9F4A-25963E2A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ED747E-FE6D-47B1-AC47-08C1408D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C00D2E-7B42-41B6-B40D-111BAE89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F46001-F1B7-4C95-B5E4-E92E19F0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CF877E-BADF-4D52-B621-715B2886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1580A8-620D-48AC-BFC5-D8D3EF9E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DE10BC-D48D-40DF-8EA5-47A8FAFB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3019DA-477D-46AB-A45E-1ABBEB65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858F3-570C-408D-B3BE-47CF2A16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63E71E-D00C-4B5D-9DAB-A8EE775C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0E60C5-301C-4EA3-AAB8-50F9B40C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02A859-38BE-4F17-A8AF-1BA3DBD3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8E5E7-747C-45B4-BA3C-E3434706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2345F-E2C1-4D61-9093-BB6FB9CB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356DC-9218-434A-BE79-621D4A49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C34ED-7C37-4262-A929-6DE9D316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3F05-D6BE-4EC2-8BAF-2A6E8BA5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10EED-826D-4334-B83A-BCCFC7A8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4731C-4EAB-4FB8-A6CC-77FB4973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5C0CC-D526-4C70-A75B-BEAE7B63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4D413-3F91-4725-8048-12127731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509B7-CD70-4FB1-A3AF-6EAD0498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17641-372D-47E6-BF04-E2402F2A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DB775-D299-4FBA-90A5-992860DB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916F3-9226-476E-B280-D1B2FC54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C3C30-2CA5-4EC6-BAC1-A1E0DE52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161F9-0488-4F85-860A-8A00AA82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D075-D450-4B66-8813-658E1DA9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0E33A-04F6-4516-84F7-9EEA6033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FD327-D8B1-4E03-B738-E9CBC02A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95028-E4F6-4ECE-BC01-D0A60BA7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C84B9-7834-4F81-B94A-563DB9A9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8A8C8-CD8B-490E-872B-64713762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79CB7-263E-4998-B41B-56AE5BA5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B8CCA-381C-49B5-9ACA-61D071D6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B1710-8795-4A25-9CB4-F9C56B30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9E5E0-4161-41EE-B2A1-7BF29FAF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771F3-B961-4317-954D-D30727D7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D5B-365A-402A-9B91-6717D523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F3FB7-7E6B-4CB6-87F2-F53D6DCA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6D090-C262-4C95-9F8D-321C761C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EA1A7-BCEF-470B-982C-378D45E6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FA301-1FE3-456A-8035-AF46638A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EA27D-D979-4855-9EA9-5C798FAC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F62A7-DFD9-4199-A2F3-6125EF81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4FBF1-28B1-4BD0-84FF-71326CF6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14EE5-C29B-4231-8450-F47B025F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FB1B5-005E-419D-B7C9-54727858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2D37A-2956-4437-AC12-D766F100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EC8-550A-40FD-8749-FC71FE61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3A628-774C-42B1-8F6F-308D0BFC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843AF-A541-4D42-AAB0-1F7992B0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0ADE3-917C-4B17-929C-D8770DC2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38FCD-6C55-48F7-83C9-BC42BC61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4163F-65BE-4CA0-BE1F-809CD460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E8B8C-15E2-48B5-9FFA-BD766BE3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C40F4-D1A3-43AC-ACEC-458C999B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24302-0307-441C-8841-5CC366EC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CFE79-F2F8-4E8F-9668-3F091E51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0E492-05CB-495B-95BD-A8863A42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E73-ABB0-43A8-A022-E43195E3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3AAFA-57C3-491B-AC56-46024E62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15A61-4D7C-471F-93DB-0B388896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5A3EC-B764-48F7-AE64-C243F7E7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B6ACA-F654-47DA-A977-AE1304B6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364DE-AA89-444D-9167-C3F9ABEB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F14AF-A960-4042-8833-DE249A90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B8E46-194A-46EF-BE23-7724E040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7238C-A7BE-48A9-B0F8-5EC40156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607FA-AFA1-45B9-8183-D576A1B6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DF4E8-833A-4F17-84CA-54AA1A0D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52FF-8472-4048-841D-7C3065F4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DB3B7-41D2-4880-B2AA-9C82A929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B4503-0F62-4B07-8725-A496CF87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C6257-F441-48C8-B196-A808EBA0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E73F3-E389-4DE0-871C-D9A4A99B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3728A-3242-48FA-B383-7231AACC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4B987-E71F-4AD7-9BF7-5099A549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51F99-C02B-4212-80E1-3E521F5D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0CFC4-0253-4FB5-B8E9-B77F30F9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22B8F-031A-4FEA-9546-973A146D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40346-F448-4C14-89F6-F85BBA6A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5D4-46EC-4B82-AD50-99798C0A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791F1-DC66-4563-B60A-3F58F266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85196-312A-4336-898C-C60768B3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198FA-F11D-4642-A004-444B2E63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C076A-9E7B-4AD5-B000-EFC45C7C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7AD20-053D-48B5-BA0E-EFAB251C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25C6E-373F-4AE7-9695-5BB5C349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12071-C16A-4873-8596-607B9883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85644-810F-4FCF-9E56-C241FA32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71C0E-2CF4-4D39-A1F8-70115415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1025A-F206-4007-B226-BDF32B89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7782-F6C7-41A0-89B1-DBD3FF566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CDE6-5443-466A-BD2B-A10C12E483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E0D0-858F-4C55-ABCD-02697161C9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8F61-25E5-49AA-88E5-37EB1881AB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742B-E126-4C3B-A933-C9EDA038CD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890E-B9E7-4ED2-AEA9-DC59A1EC25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DFD6-3CB2-4607-B976-4140BC8733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DB7A-3977-4766-9DEC-BF6C2A591C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AF01-9214-4CD3-86BC-4A00967578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09FB-AD66-4BB5-B6CE-82AE9B2FB6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519D-CDB3-44B5-8B34-D34916AF81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FAC5-EB5C-4EFC-BFB6-AA2C998328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924A-3800-4CC7-9F4E-B42CF2FE10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937E-57DC-4BC5-81A7-689F11677B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32ED-D79F-47F9-89EF-626FEFCC1C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3E09-FA7B-4EC5-B054-569CF90C46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B044-A7CC-4C0F-877C-B8854A8AC7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D817-680C-43A1-A566-F78FC26688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0762-03F9-4808-9C1B-D61356E49A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9349-CF75-434F-838D-8A3395F992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652B-738B-4FC7-983B-916FAF4B15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3F5A-303D-4373-8A16-7A06AF626B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4ABA-9918-49E4-A38F-DA0B3EAF1A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62D1-E16A-4271-A89C-2F8A26F506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97A6-5542-4639-88FE-898257217C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5482-CAB4-4273-A048-6FA72E617E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18F2-DF44-4377-A482-7CF8F5E133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A1C1-659A-4861-B3B1-683DC4782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AEF5-22C5-45A0-A3FD-3308AE6620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7A98-F7D7-486D-A350-CFF36232F8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892C-A56B-419C-AF08-34671355AE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0144-4794-4222-8708-DECF36706A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C9A0-1889-4D09-A9B7-E087E6BCB8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40A6-6E7B-4451-83ED-9211B83219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69EC-D165-4841-AE87-F2639A721E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997A-07C1-456D-B666-29CAC3E5FA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2680-75AD-422A-9416-0D83153F5F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F9B7-9148-4B4D-B97F-73CE8680D7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21E1-4E41-4EE3-8151-5144E0D85A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7EBC-B811-497D-A5C6-76E3BF6FA0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428760" y="2786040"/>
            <a:ext cx="8715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85640" y="681120"/>
            <a:ext cx="8172720" cy="549576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928800" y="235728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928800" y="428616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358120" cy="592920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928800" y="785880"/>
            <a:ext cx="42840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857160" y="3071880"/>
            <a:ext cx="42876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4"/>
          <p:cNvSpPr/>
          <p:nvPr/>
        </p:nvSpPr>
        <p:spPr>
          <a:xfrm>
            <a:off x="785880" y="492912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8134200" cy="25146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2"/>
          <a:stretch/>
        </p:blipFill>
        <p:spPr>
          <a:xfrm>
            <a:off x="357120" y="3500280"/>
            <a:ext cx="8115480" cy="2352960"/>
          </a:xfrm>
          <a:prstGeom prst="rect">
            <a:avLst/>
          </a:prstGeom>
          <a:ln w="0">
            <a:noFill/>
          </a:ln>
        </p:spPr>
      </p:pic>
      <p:sp>
        <p:nvSpPr>
          <p:cNvPr id="1032" name="矩形 3"/>
          <p:cNvSpPr/>
          <p:nvPr/>
        </p:nvSpPr>
        <p:spPr>
          <a:xfrm>
            <a:off x="5286240" y="1500120"/>
            <a:ext cx="85752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5"/>
          <p:cNvSpPr/>
          <p:nvPr/>
        </p:nvSpPr>
        <p:spPr>
          <a:xfrm>
            <a:off x="3857760" y="2928960"/>
            <a:ext cx="85716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6"/>
          <p:cNvSpPr/>
          <p:nvPr/>
        </p:nvSpPr>
        <p:spPr>
          <a:xfrm>
            <a:off x="4357800" y="3571920"/>
            <a:ext cx="1357200" cy="349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7"/>
          <p:cNvSpPr/>
          <p:nvPr/>
        </p:nvSpPr>
        <p:spPr>
          <a:xfrm>
            <a:off x="5214960" y="4572000"/>
            <a:ext cx="1214280" cy="314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8"/>
          <p:cNvSpPr/>
          <p:nvPr/>
        </p:nvSpPr>
        <p:spPr>
          <a:xfrm>
            <a:off x="4929120" y="5000760"/>
            <a:ext cx="100008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519120" y="752400"/>
            <a:ext cx="8105760" cy="5353200"/>
          </a:xfrm>
          <a:prstGeom prst="rect">
            <a:avLst/>
          </a:prstGeom>
          <a:ln w="0">
            <a:noFill/>
          </a:ln>
        </p:spPr>
      </p:pic>
      <p:sp>
        <p:nvSpPr>
          <p:cNvPr id="1038" name="矩形 2"/>
          <p:cNvSpPr/>
          <p:nvPr/>
        </p:nvSpPr>
        <p:spPr>
          <a:xfrm>
            <a:off x="2689200" y="2249640"/>
            <a:ext cx="857160" cy="385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3"/>
          <p:cNvSpPr/>
          <p:nvPr/>
        </p:nvSpPr>
        <p:spPr>
          <a:xfrm>
            <a:off x="5160960" y="2214720"/>
            <a:ext cx="1046160" cy="425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7572240" y="2214720"/>
            <a:ext cx="857520" cy="385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5"/>
          <p:cNvSpPr/>
          <p:nvPr/>
        </p:nvSpPr>
        <p:spPr>
          <a:xfrm>
            <a:off x="1571760" y="2786040"/>
            <a:ext cx="1571400" cy="314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6"/>
          <p:cNvSpPr/>
          <p:nvPr/>
        </p:nvSpPr>
        <p:spPr>
          <a:xfrm>
            <a:off x="3071880" y="3214800"/>
            <a:ext cx="857160" cy="407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7"/>
          <p:cNvSpPr/>
          <p:nvPr/>
        </p:nvSpPr>
        <p:spPr>
          <a:xfrm>
            <a:off x="4786200" y="3214800"/>
            <a:ext cx="857520" cy="385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"/>
          <p:cNvSpPr/>
          <p:nvPr/>
        </p:nvSpPr>
        <p:spPr>
          <a:xfrm>
            <a:off x="6143760" y="3214800"/>
            <a:ext cx="1857240" cy="385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9"/>
          <p:cNvSpPr/>
          <p:nvPr/>
        </p:nvSpPr>
        <p:spPr>
          <a:xfrm>
            <a:off x="1500120" y="4643280"/>
            <a:ext cx="85716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10"/>
          <p:cNvSpPr/>
          <p:nvPr/>
        </p:nvSpPr>
        <p:spPr>
          <a:xfrm>
            <a:off x="3071880" y="4643280"/>
            <a:ext cx="85716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11"/>
          <p:cNvSpPr/>
          <p:nvPr/>
        </p:nvSpPr>
        <p:spPr>
          <a:xfrm>
            <a:off x="1654200" y="5607000"/>
            <a:ext cx="106056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2" descr=""/>
          <p:cNvPicPr/>
          <p:nvPr/>
        </p:nvPicPr>
        <p:blipFill>
          <a:blip r:embed="rId1"/>
          <a:stretch/>
        </p:blipFill>
        <p:spPr>
          <a:xfrm>
            <a:off x="480960" y="1509840"/>
            <a:ext cx="8182080" cy="3838320"/>
          </a:xfrm>
          <a:prstGeom prst="rect">
            <a:avLst/>
          </a:prstGeom>
          <a:ln w="0">
            <a:noFill/>
          </a:ln>
        </p:spPr>
      </p:pic>
      <p:sp>
        <p:nvSpPr>
          <p:cNvPr id="1049" name="矩形 2"/>
          <p:cNvSpPr/>
          <p:nvPr/>
        </p:nvSpPr>
        <p:spPr>
          <a:xfrm>
            <a:off x="4857840" y="1928880"/>
            <a:ext cx="714240" cy="385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3"/>
          <p:cNvSpPr/>
          <p:nvPr/>
        </p:nvSpPr>
        <p:spPr>
          <a:xfrm>
            <a:off x="6357960" y="1928880"/>
            <a:ext cx="714240" cy="385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4"/>
          <p:cNvSpPr/>
          <p:nvPr/>
        </p:nvSpPr>
        <p:spPr>
          <a:xfrm>
            <a:off x="2071800" y="2428920"/>
            <a:ext cx="642960" cy="406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5"/>
          <p:cNvSpPr/>
          <p:nvPr/>
        </p:nvSpPr>
        <p:spPr>
          <a:xfrm>
            <a:off x="3214800" y="2428920"/>
            <a:ext cx="1500120" cy="406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6"/>
          <p:cNvSpPr/>
          <p:nvPr/>
        </p:nvSpPr>
        <p:spPr>
          <a:xfrm>
            <a:off x="2500200" y="3429000"/>
            <a:ext cx="128592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7"/>
          <p:cNvSpPr/>
          <p:nvPr/>
        </p:nvSpPr>
        <p:spPr>
          <a:xfrm>
            <a:off x="4286160" y="3357720"/>
            <a:ext cx="2786040" cy="436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8"/>
          <p:cNvSpPr/>
          <p:nvPr/>
        </p:nvSpPr>
        <p:spPr>
          <a:xfrm>
            <a:off x="7500960" y="3357720"/>
            <a:ext cx="857160" cy="385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9"/>
          <p:cNvSpPr/>
          <p:nvPr/>
        </p:nvSpPr>
        <p:spPr>
          <a:xfrm>
            <a:off x="1857240" y="4857840"/>
            <a:ext cx="857520" cy="385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10"/>
          <p:cNvSpPr/>
          <p:nvPr/>
        </p:nvSpPr>
        <p:spPr>
          <a:xfrm>
            <a:off x="3514680" y="4832280"/>
            <a:ext cx="85716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11"/>
          <p:cNvSpPr/>
          <p:nvPr/>
        </p:nvSpPr>
        <p:spPr>
          <a:xfrm>
            <a:off x="4786200" y="4857840"/>
            <a:ext cx="857520" cy="385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3" descr=""/>
          <p:cNvPicPr/>
          <p:nvPr/>
        </p:nvPicPr>
        <p:blipFill>
          <a:blip r:embed="rId1"/>
          <a:stretch/>
        </p:blipFill>
        <p:spPr>
          <a:xfrm>
            <a:off x="571680" y="857160"/>
            <a:ext cx="8124480" cy="5667480"/>
          </a:xfrm>
          <a:prstGeom prst="rect">
            <a:avLst/>
          </a:prstGeom>
          <a:ln w="0">
            <a:noFill/>
          </a:ln>
        </p:spPr>
      </p:pic>
      <p:sp>
        <p:nvSpPr>
          <p:cNvPr id="1060" name="矩形 2"/>
          <p:cNvSpPr/>
          <p:nvPr/>
        </p:nvSpPr>
        <p:spPr>
          <a:xfrm>
            <a:off x="3500280" y="5572080"/>
            <a:ext cx="164340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3"/>
          <p:cNvSpPr/>
          <p:nvPr/>
        </p:nvSpPr>
        <p:spPr>
          <a:xfrm>
            <a:off x="7072200" y="6072120"/>
            <a:ext cx="85752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2" descr=""/>
          <p:cNvPicPr/>
          <p:nvPr/>
        </p:nvPicPr>
        <p:blipFill>
          <a:blip r:embed="rId1"/>
          <a:stretch/>
        </p:blipFill>
        <p:spPr>
          <a:xfrm>
            <a:off x="490680" y="1023840"/>
            <a:ext cx="8162640" cy="4810320"/>
          </a:xfrm>
          <a:prstGeom prst="rect">
            <a:avLst/>
          </a:prstGeom>
          <a:ln w="0">
            <a:noFill/>
          </a:ln>
        </p:spPr>
      </p:pic>
      <p:sp>
        <p:nvSpPr>
          <p:cNvPr id="1063" name="矩形 2"/>
          <p:cNvSpPr/>
          <p:nvPr/>
        </p:nvSpPr>
        <p:spPr>
          <a:xfrm>
            <a:off x="7858080" y="928800"/>
            <a:ext cx="857160" cy="385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3"/>
          <p:cNvSpPr/>
          <p:nvPr/>
        </p:nvSpPr>
        <p:spPr>
          <a:xfrm>
            <a:off x="534960" y="1450800"/>
            <a:ext cx="85716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4"/>
          <p:cNvSpPr/>
          <p:nvPr/>
        </p:nvSpPr>
        <p:spPr>
          <a:xfrm>
            <a:off x="7250040" y="2406600"/>
            <a:ext cx="103680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5"/>
          <p:cNvSpPr/>
          <p:nvPr/>
        </p:nvSpPr>
        <p:spPr>
          <a:xfrm>
            <a:off x="5000760" y="3357720"/>
            <a:ext cx="857160" cy="385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6"/>
          <p:cNvSpPr/>
          <p:nvPr/>
        </p:nvSpPr>
        <p:spPr>
          <a:xfrm>
            <a:off x="6654960" y="3854520"/>
            <a:ext cx="1571400" cy="396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7"/>
          <p:cNvSpPr/>
          <p:nvPr/>
        </p:nvSpPr>
        <p:spPr>
          <a:xfrm>
            <a:off x="6789600" y="4349880"/>
            <a:ext cx="157176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9"/>
          <p:cNvSpPr/>
          <p:nvPr/>
        </p:nvSpPr>
        <p:spPr>
          <a:xfrm>
            <a:off x="3192480" y="5289480"/>
            <a:ext cx="114300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23:0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